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865-57AF-4F19-8C86-6B460F3F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565-9913-4E4F-B6F2-4AF0D8A3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2AE5E-E094-4FE1-A6F6-E64889A0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D8ADC-1BA9-4142-9EA6-FB92366E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FE32C-2D8D-4CD3-B635-3A69B9DD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4E5D0-4F41-400F-8818-1EC8E77F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90A31-4DF1-4D48-8926-CBCD9D8B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BA435-CE24-4051-A030-B22D8429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E2D0E-3E4A-4EC0-A1C3-0A95CDB0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69063-5B63-437C-ABE5-918A0F2C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EC103-7216-4B3E-AA46-38CA209E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08CDD-CCB0-42F4-AD6D-C38A83A7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E31-F77D-478D-AA31-A3501C68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1DF8E-7479-4BD0-AD60-660F4748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83479-C80C-4A37-AC19-314B3ECA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54A9F-0DB5-4C15-88C3-7EE54704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7013E-9E5E-4830-A11C-D568585E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42E58-3590-4AE5-9E6B-454645C4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E5913-2E42-4FAE-80EB-B98561F6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CC3CE-210C-4CD5-9111-38AF7885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C77C5-C172-40A0-8580-EF978319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CCE52-C435-4549-9BD3-0598C248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DF162-8BD7-484C-9F7F-721C1E42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012-8DBA-475E-A12A-967D810E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1ED3F-93BC-4B4F-9E70-16C5D12B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C6A5B-39A1-45C3-A631-13D399C6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A69DA-E3BF-48B2-8C62-AEACDAA1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1C4B2-B8E3-4795-9601-58571ACB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090C6-D303-4478-ACD8-0EF732F0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5F786-C7D4-4150-AD22-2C2C3BBB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38B76-333D-4029-9FFD-03347557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5E245-E923-4FFD-9520-2B71B422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B5DF0-92DF-49A5-A44D-8A8AEC65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86B73-0F5E-41E6-9E66-17A97438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D3EF-F8AC-4DE7-8833-DF8093DE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12EEB-1B2D-4C0F-946D-DEDD89C3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698BA-6F29-4AD5-946A-3F7477F1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67717-817B-41D6-8281-3A4F40F1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BA546-7ECB-4B41-8CA5-8521043B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565E2-3B19-46C1-A884-639BAF97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2FC8C-69CA-4672-90A2-661CEB5B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4409A-9080-4144-AB1B-E1CA10E4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5F7EB-130B-4D68-B9E5-6AE38AEE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886A9-CAAC-4049-BCDE-65C061D1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E29FD-B260-4EAB-90DA-9813F22A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0C10-1B12-4F67-ADA8-A345E26B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82CB7-1096-43AB-B827-7879ED67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32AD0-0705-448F-A764-3B184225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D578B-7173-4D95-90E6-E6D9B5AE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5B404-7491-4C22-944A-DC69023C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42D3E-89F2-491E-9733-2F3023E0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E379B-F7F6-4A2F-A707-B1AF12E6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DAFA7-0E0E-455E-8728-CBB8F1DB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664A9-1F10-4A3D-A79F-72B59846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3E62E-2111-4181-BB1A-23DC5019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6519B-FF40-43FD-98BF-D4A9FFE9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F71C-DACB-4156-862B-FA9F457C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CDBD3-9CF1-480A-B464-CCDF7DC5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1F3DA-BA39-4417-9BEE-174D21D8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3E6C5-1488-4246-8EB9-FBB3DBF4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8B603-8C1D-484E-B5A4-24E8DBB1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A6F4D-863A-4D1E-9DE4-417D3E40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A7185-A2EA-4657-B711-0279A2D2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93410-4B17-4234-B6A1-1CDC1342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7251C-25A5-4187-9AC0-8BC72CD1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D85305-3261-4EA9-B8A0-810E84E2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D1AAF-B3C3-4A95-A958-61D1BC78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0E85-9697-4DF5-9A2E-C5D8548F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3063B-1CDD-4428-AD4B-0B0A94D2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0AA7C-97B2-4242-B925-87C67950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4CBBDC-BD92-41C1-AF36-6DEB6B03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D9C7B-BC4E-43FC-9163-4EFBECBA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D8D96-5A9C-4539-905C-71382F35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27CFA-739A-411E-BCB6-E5DDBEEC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FF192A-960F-4776-9AB8-DFEC2CA7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64D9AF-300D-4492-A222-4863C80F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2D104-1389-4378-8D9C-100AF651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CF6BD2-5AE5-4C5F-8C6F-10FF1CEF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9D4F-C746-4FCB-9431-9BADBC3D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BC7FB-F441-4DE5-AC35-D3B34592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24BCCC-18CA-497E-884A-A6FBDE34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468EA3-5716-4BE2-9B3A-D0986651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DBBABC-5978-467C-B116-6E1555E9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E79884-D3D7-40D2-9EEE-56A74B93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FEAC49-9024-463F-9FEF-EDD8AF5C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152E4C-BF6B-46E0-9656-D8EC1135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09697-E70D-4C0B-80B4-2A35957C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E1119-4A3D-4316-B0FE-BEBB252F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FC205D-C02E-47AB-81D7-6AA86265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AB26-2574-42EA-AA7E-D0066600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5D772-99EA-4801-89EA-6370F851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C8865-4B8C-47C0-A1DB-2D4EF91B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88D308-630A-4EB7-90C2-086BF978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12CE4-9345-452E-8982-960ECD78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9E7290-4585-47B4-AE39-A0C1C465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971C09-9B29-4A3F-83E6-8BF8DD74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B74F9-233A-4F11-B919-E18EF67B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FCDA6E-2990-4FE2-AE6A-391EEE1C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ADBC0-FF0C-48E7-B1AE-B65214DE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EBE24B-1970-4C57-87C7-D0942254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8D47-74B2-4C75-B7DF-9874D0A8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A8741-4AB6-48DC-A718-5CA7D32A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E526A9-A8FC-439B-B13B-49F7B26E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F53E6-635A-490E-9BDB-A3112F93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2752C9-B34D-4AB1-A941-7B421FE9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5A544-4F8A-4038-87ED-E5807953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E185E-1C2C-47B6-B8B6-698615E3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601B92-1085-4253-B0A5-7141DC6E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D319E-2427-42D1-9162-2FAC9829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EB7F6-5197-448D-9E93-3A8C807F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ACAAF1-C54B-470F-B6EC-53B2A6C9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C8E-4F5C-4A2B-B21C-FCD904D1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52D4-E551-4247-8FBE-15D26F26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E1461B-4A0A-488B-8597-7931E0A3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9483C8-F7C8-4C3D-9D08-1A48A305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B5B733-AC52-4B24-9B44-822FD688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EF2BF-EC2C-4ED7-8227-2626EB70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0CBDBF-F28C-4D6E-B4CA-449BF51F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78737-531D-45DC-A7E7-998804BD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69C64A-9314-4171-8BBC-4F30FC92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29AF47-AAAC-44BD-8D2D-6B73177C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2A804-9AC9-4523-8FC3-9F65C5A0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73DDF1-C2A4-4239-9E95-5CC2684F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AE80-DDDA-42C6-99B4-A9475088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D4B803-1EAE-4D8B-AA57-D13F5EAF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877EC7-A32F-489D-B392-60E0E01F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77A76A-2A8E-4A69-9417-CB0DE427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A6307F-DD18-4C3D-90F4-F61B442B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BE2AC1-C01F-4A38-AD94-675B31DB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2B620E-A007-46B3-B1C2-767269F8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D4397B-3693-4833-B93C-D6DDE233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5941FE-2E1C-4A52-880B-0B7E0289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6A8F87-8B5A-4D8E-A06D-AC2C0356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75A768-B386-4B6D-B4E0-F121E474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71B9-F190-42E1-831E-C58BDC75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3E69F4-6267-455B-880A-D7B124D0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3D6EE4-A9A3-4BC5-974A-66FC4E94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25C237-5F0A-4CDE-A72D-BF5B29EE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B1F9A-86F2-46D6-BFA5-EF90ED59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587050-F35B-42C2-B8B4-972CC792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133908-CDEF-4C9E-8EEF-A371289E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B2FDCB-4E74-41AB-B9B1-B7142D39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F00C99-A685-46A5-A89C-2B044A37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63576D-0575-46F0-9EEA-04619694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1A9434-1E2A-45E3-87CC-B9D7367A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E782-9B9A-4B48-A64B-9C49C05E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FEF8AE-36A2-4249-BF43-13563732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C07233-902D-4C4F-96A0-3C8CDAB2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A672BA-2204-4F54-9997-ED981766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14F69C-BBDE-4D1F-BDD7-AA266BFC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E55F39-FF3C-4F31-A0BB-9F0E98AF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56627D-6395-4CA8-B302-C71F8AF1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65441B-CFCC-4EBE-9E91-B05121F5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626214-2D1C-4B1F-9277-2EFA9A45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DFD192-2023-4023-96CA-BA77F7A1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A46B05-328F-4889-A50B-663B3CDA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A238-97A7-422C-A195-ECBBFE01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16B37B-4E3B-4EED-A0FB-62351196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CF1894-9566-4EC4-821D-F298E1BD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66827C-D194-4D8D-AA49-589C8FE4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B5179D-822F-4D56-B996-BF411E6C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72F62B-0264-4744-AEB9-8012ED55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2B583C-60C2-4AF9-B501-47E45F0B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3F7B09-20F6-491A-B79D-36E8FA28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8AD22B-088D-4909-81CA-AA7EAF30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E4EE3D-9454-4A28-91D1-C33E4229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0C3100-0096-4AA4-AA87-12A50BEF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4C7F-C1A5-4D51-8DAE-6CAA3533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91CFAE-58D6-49F3-803A-50EA66DF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8ED3E9-6556-48BD-8F0B-079F165C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468AF9-37DF-4338-8532-6FAAF5DE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EBAE73-EB77-43DC-A538-E8EE0EC8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F04145-569B-4912-94C6-A7E25A21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C7E2D0-32CC-48D6-BAF8-8E95CFD7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1C237D-E798-4A36-9176-0B16A1E2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63395D-4286-48DF-AADA-B9186EEC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F5D967-EC6F-47BC-851C-038CBD19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6987C4-B03D-4C89-B6F5-1C8B3EB5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E4A16-B360-4440-BDE9-0F9D3D88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A4A5A9-4029-4048-9749-987C63F3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68CCED-441B-494E-A021-B087DCA8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C6AF45-0906-4417-B51C-E2DA9693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0BC2F2-762B-408D-8595-A2538231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F5F079-5AE4-4BBF-B277-FE38C2A8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35ACC9-3C71-4262-B7E5-BC4C96A7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2461DA-AF8B-44AD-8C6C-35A2BD8A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77ED4A-D009-48CA-9B10-55A94BBA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0FDF0D-91A5-43E6-B368-6E2E1FDF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8B3864-F99F-4879-87E2-77779AE7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3F357-0D05-47F6-B214-BD941998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C56FCD-C400-4D39-A326-F7D28C15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E0E9B2-95C0-4741-ABE7-C6E2E742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FE42A0-65F6-4881-8A18-394A56B9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545953-62BF-4175-B1EE-6AA9F3AF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ED3132-3C43-4844-B29B-BDAF7BD4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3C09F0-796F-470A-B4F8-0FE6CCDC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8A2F32-3AD2-4A75-B779-EB32565D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E5EAE-C674-4B8E-8DD7-3CB46441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0C9B-C8BB-4680-B124-9E4C5CB8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C96-3B5D-4F9E-BACB-C92AC04C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80B1D-B69B-4269-B724-7E42E64D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43F4-1BF3-4C1E-8C49-94D5D34F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76F3B-AA7A-4C3C-9F7D-FCCF5C74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C9B32-A70A-4D21-A326-5FE91B52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AFB33-7DDB-4A08-BC02-C73B0AD9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ACA4-5881-4AAC-8A2D-8BB1AD47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A6F0B-DD38-4E99-BBE2-E623E79F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48913-E907-4A5E-A09B-431C3389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BA729-6A29-4F81-84DA-468F6106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D1084-BC52-4705-B2FF-D28447E4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BB1-DE4F-4B14-977B-6A2A0E5C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665F1-A8C5-4294-9543-B9D3887A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4296D-5957-4D3C-BADE-7F8EE4A6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87773-9BCA-48F2-A86E-C2DB2571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8DD19-C55D-492F-A8FE-458FC5FD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7647C-21D1-4710-B177-E4A95392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15923-0F7F-44EE-A6ED-AD4A991C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B6AE8-D685-4E3C-ABAD-5A25EB30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75D01-1F6A-42D1-83FA-AF11C6D0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A9239-92B1-4A9E-BBCB-C6FE213A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6EDAE-7A9C-4179-A907-155234E4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7E3-1BE9-4901-8066-B5F8174C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88047-3965-4683-8B34-1CB0DE54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A09DF-9F2A-448B-9203-52ED7C7D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3C2F6-FF0D-44B3-AB21-A5DD90C0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669EE-7E73-42DF-9D41-8183039C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1833C-B2D5-45DF-8B52-68E6F02F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E9D22-20F9-4610-8FB1-7C23DDF5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973DB-6FAA-4604-9D3D-6F09DE64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289F7-2FFD-45FD-B919-BA18CF12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27EF0-8C79-457C-8E8A-75B441E4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1BD42-0E53-4823-858F-9662670A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FD3-A692-4BE7-AB60-971FFA18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C5729-2889-4663-97CF-1AF07D33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A54BE-EDC9-46D0-B729-248550AC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518BD-6957-42E8-B108-37EBB962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7FC5B-9A88-4B5F-BFBC-77D7B4CB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13107-FACE-4038-B305-3D71D8F7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B4EB8-7618-4930-81B6-E23E0218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C5225-E50C-44C4-8275-7EE6E9AF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1A8BA-2476-492A-B26E-E6924021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1DC88-5B1D-48CE-BF99-E44438BC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C7D66-4A3B-4C45-99D9-BED171E5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FED-B0AF-46D3-A068-938601D1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C6FEC-54CF-4F70-8796-26D589B4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1E0A7-C6BA-425E-B65A-0B38BFF1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F51A1-F61F-46A9-9B90-377C9D5E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FFFCF-2B32-452F-9DF1-E6D8A5A7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9A7B4-02CF-4FE8-AC63-F54F9F30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441F7-2A4F-4243-9AD7-820674E0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D034D-B548-49C3-AA59-37D33237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CB400-45B8-44B2-99BD-D91D9311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DF79D-E0D4-4413-896B-A63D67DF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80B4A-05B9-4A36-B5D7-572CC964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FF4-CB4F-41A5-A3CD-009B3A19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45E91-58F2-419E-80F0-8BC134FB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1616B-340C-4D0C-9A29-AA9470BF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958AB-F602-441D-A324-ACCC205C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773AC-39D1-4795-9BDC-9DFD6B4D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4BA9D-8C6B-4831-A818-C3269697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43135-6D49-47C4-A4E8-D6AB5A9F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79089-3463-4C94-BA3A-660324F6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1DA5F-BFD1-4124-B8B4-50681AF9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819E1-9E24-4BAF-8774-6ADD9907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D533D-BC85-4A2E-BB5B-55E17D03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833-A745-4B70-8E82-28765883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967BA-561C-4206-88D0-48B38DBF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6E2C2-A52E-43E1-8B69-AB8BE5EE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9D187-760E-4DEE-A190-DAE68A2F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3DC35-997E-4901-9D92-7891D2D3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436DB-F67A-47C5-9A3A-B6A60800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4D5C1-F1B0-45AC-ADB4-C2F2801F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B16AD-DE80-4CED-9C8B-CF63079A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CC8E0-583B-436B-A652-0CD9A131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68F64-A801-45B3-BB7A-1C209CA7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52886-CD9F-4873-B783-7B617450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33FF-5176-4911-824A-79FFC84342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88C0-7C39-4018-8454-6DF8208B69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261B-9812-4878-A9F9-38BD966D7E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1E86-3939-4F71-A884-05117255BC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AC25-E20F-4296-9F36-1A06245BE4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75D4-A01E-44B8-B91F-69A507EE2C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9316-5B67-411B-9595-7B42A53135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C152-740C-4983-BF04-D2BF1210F8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659F-8EDB-40C3-9800-2E1249E4A5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EEDF-C3CA-49A0-9518-BC82DDF8CF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17C8-40FA-4D14-9082-9C24E8C1A6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7D62-2161-42E6-B921-E8F461A5BC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0B4A-4A3B-4B52-A5EF-65E88D8304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E558-950F-411A-8D6A-90C838E350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C99C-18EE-45D4-9A5E-759E3E2553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51B3-5835-41F7-BD8A-E204AB7CD8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A726-F430-40FD-8D69-A302690D2A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5416-255A-4A52-BB1A-75B8A5728E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9583-9AD3-498D-B7E6-2046C5004C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FF66-9DA1-48C3-BD2B-94D7568050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C30B-025C-4350-BB44-898989F128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A20B-24B6-4BE4-A279-7A9324B71F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12B1-6557-4BF1-BD97-58F6A0EE5C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9210-17B7-4403-814C-59CF3CEEA6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0A18-1132-4601-AF37-4651D70155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BF82-BC38-4362-A94E-1BC4992A0D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9134-3F3E-4EDA-98D6-845E68FFCD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A64D-8E6C-49AE-B85D-042D48F7AA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478B-1290-4CD5-81FD-3E2EC74494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3EBD-03E3-4CDC-8595-CF52D0C92F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7FDA-EA16-4D0D-AC8B-20B924597C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FE96-16EB-4B1F-9856-55C38849E7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03CC-63AC-495F-9FC0-AE1A0D41EC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4568-924E-4264-9E21-32A2A15693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A482-9A6F-495C-A805-69E090AE3E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5AF9-F136-4355-96B7-AA0927C7B0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C16B-3607-489A-B85B-90DF0D97F0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9B4C-9539-4AE7-91DF-D8D327E9D3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F892-159C-46D7-9BED-C78411DA2F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06DA-645D-4EF8-B848-74123E4FD6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AC55-6ED8-4F31-A908-9ADB4B0330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1455-19EE-46FB-8B03-DDD81473D9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709640" y="1403280"/>
            <a:ext cx="5724720" cy="156204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34920" y="3382920"/>
            <a:ext cx="8891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228600" y="1042920"/>
            <a:ext cx="8686800" cy="47721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755640" y="5300640"/>
            <a:ext cx="187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500040" y="809640"/>
            <a:ext cx="8143920" cy="52387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3492360" y="5473800"/>
            <a:ext cx="1366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1" descr=""/>
          <p:cNvPicPr/>
          <p:nvPr/>
        </p:nvPicPr>
        <p:blipFill>
          <a:blip r:embed="rId1"/>
          <a:stretch/>
        </p:blipFill>
        <p:spPr>
          <a:xfrm>
            <a:off x="600120" y="1700280"/>
            <a:ext cx="7943760" cy="34574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2411280" y="4508640"/>
            <a:ext cx="129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585720" y="819000"/>
            <a:ext cx="7972560" cy="52200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529272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5003640" y="5459400"/>
            <a:ext cx="13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181080" y="895320"/>
            <a:ext cx="8781840" cy="56959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2627280" y="270828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2340000" y="436572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3492360" y="5992920"/>
            <a:ext cx="100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552600" y="2604960"/>
            <a:ext cx="8038800" cy="16480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3708360" y="3500280"/>
            <a:ext cx="129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809640" y="1752480"/>
            <a:ext cx="7524720" cy="33530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3348000" y="278136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3132000" y="3573360"/>
            <a:ext cx="13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2843280" y="442260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7164360" y="280980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7"/>
          <a:stretch/>
        </p:blipFill>
        <p:spPr>
          <a:xfrm>
            <a:off x="6732720" y="443700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162000" y="804960"/>
            <a:ext cx="8820000" cy="59338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3203640" y="6021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4095720" y="603576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105520" y="597852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997600" y="599292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948360" y="600696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7840800" y="6021360"/>
            <a:ext cx="79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519120" y="919080"/>
            <a:ext cx="8105760" cy="5724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4788000" y="452268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6443640" y="537372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3419640" y="6121440"/>
            <a:ext cx="79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2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